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DDE-CC7D-4580-8B72-22C5B88D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18F-FDD8-434C-A486-768F7339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66B-78EF-4384-B49E-08FD69E7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923-8097-468B-A830-FD1F30FF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155-9867-4E5E-AB57-9C466C1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D77-EAE8-4535-B012-49D9245F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878-68E1-49F5-8B55-C5D3686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0D0-37A3-4978-8988-F9C78560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100-91EB-4280-91EB-1D6AC5C8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B32-7277-4E3B-A208-E329F75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08B-00D5-4225-BDE6-379F2C2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BEC-9963-441C-854F-7B4ECDD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BA73-5DBE-4FD2-9F99-F91BCDE2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02:26Z</dcterms:created>
  <dc:creator>Grupo Editorial</dc:creator>
  <dc:description/>
  <dc:language>en-US</dc:language>
  <cp:lastModifiedBy>Grupo Editorial</cp:lastModifiedBy>
  <dcterms:modified xsi:type="dcterms:W3CDTF">2001-11-21T17:05:39Z</dcterms:modified>
  <cp:revision>1</cp:revision>
  <dc:subject/>
  <dc:title>Sin título de diapositiva</dc:title>
</cp:coreProperties>
</file>